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A51-D22D-431C-99E4-C3DFDAD7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57D-4301-4A98-B09B-0D8555CC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521-AC42-4367-84D9-42ED1923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193-108B-42BD-AC13-E82506FA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B02-E89E-4326-A0A2-AB9CB4E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D75-1861-4A39-A3F1-2E8C111D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558-E04D-440D-9DC0-3C37BC5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47B-429F-4EC1-802C-E9F9C91C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461-EB41-4519-AFF1-03721947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4C1-9906-4E84-A593-D8E5E3A6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0FB-F26F-4124-A75F-370BDC59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F97-005D-47D6-8D64-A14FB4A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2990-AE8D-4826-9D31-C58758A234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bc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G:\Imágenes trabajo TWITTER\2009-12-04_131307.png"/>
          <p:cNvPicPr/>
          <p:nvPr/>
        </p:nvPicPr>
        <p:blipFill>
          <a:blip r:embed="rId1"/>
          <a:stretch/>
        </p:blipFill>
        <p:spPr>
          <a:xfrm>
            <a:off x="1143000" y="2209680"/>
            <a:ext cx="7010280" cy="1986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G:\Imágenes trabajo TWITTER\2009-12-04_131349.png"/>
          <p:cNvPicPr/>
          <p:nvPr/>
        </p:nvPicPr>
        <p:blipFill>
          <a:blip r:embed="rId2"/>
          <a:stretch/>
        </p:blipFill>
        <p:spPr>
          <a:xfrm>
            <a:off x="2819520" y="4267080"/>
            <a:ext cx="3504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e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:\Imágenes trabajo TWITTER\2009-11-23_111820.png"/>
          <p:cNvPicPr/>
          <p:nvPr/>
        </p:nvPicPr>
        <p:blipFill>
          <a:blip r:embed="rId1"/>
          <a:stretch/>
        </p:blipFill>
        <p:spPr>
          <a:xfrm>
            <a:off x="1522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:\Imágenes trabajo TWITTER\2009-11-23_111919.png"/>
          <p:cNvPicPr/>
          <p:nvPr/>
        </p:nvPicPr>
        <p:blipFill>
          <a:blip r:embed="rId2"/>
          <a:stretch/>
        </p:blipFill>
        <p:spPr>
          <a:xfrm>
            <a:off x="609480" y="-14400"/>
            <a:ext cx="8047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c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Tempus Sans ITC"/>
              </a:rPr>
              <a:t>Util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G:\Imágenes trabajo TWITTER\2009-12-04_122221.png"/>
          <p:cNvPicPr/>
          <p:nvPr/>
        </p:nvPicPr>
        <p:blipFill>
          <a:blip r:embed="rId1"/>
          <a:stretch/>
        </p:blipFill>
        <p:spPr>
          <a:xfrm>
            <a:off x="838080" y="0"/>
            <a:ext cx="75708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1828800" y="1447920"/>
            <a:ext cx="403848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9" name="Picture 6" descr="G:\Imágenes trabajo TWITTER\2009-12-04_122320.png"/>
          <p:cNvPicPr/>
          <p:nvPr/>
        </p:nvPicPr>
        <p:blipFill>
          <a:blip r:embed="rId2"/>
          <a:stretch/>
        </p:blipFill>
        <p:spPr>
          <a:xfrm>
            <a:off x="1143000" y="2971800"/>
            <a:ext cx="7238880" cy="1758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0" name="Line 7"/>
          <p:cNvSpPr/>
          <p:nvPr/>
        </p:nvSpPr>
        <p:spPr>
          <a:xfrm>
            <a:off x="3733920" y="2362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Oval 9"/>
          <p:cNvSpPr/>
          <p:nvPr/>
        </p:nvSpPr>
        <p:spPr>
          <a:xfrm>
            <a:off x="7467480" y="3048120"/>
            <a:ext cx="838440" cy="7617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:\Imágenes trabajo TWITTER\2009-12-04_12273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83" name="Picture 5" descr="G:\Imágenes trabajo TWITTER\2009-12-04_122832.png"/>
          <p:cNvPicPr/>
          <p:nvPr/>
        </p:nvPicPr>
        <p:blipFill>
          <a:blip r:embed="rId2"/>
          <a:stretch/>
        </p:blipFill>
        <p:spPr>
          <a:xfrm>
            <a:off x="0" y="2424240"/>
            <a:ext cx="9144000" cy="4433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G:\Imágenes trabajo TWITTER\2009-12-04_1231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5" name="Rectangle 5"/>
          <p:cNvSpPr/>
          <p:nvPr/>
        </p:nvSpPr>
        <p:spPr>
          <a:xfrm>
            <a:off x="6553080" y="609480"/>
            <a:ext cx="685800" cy="4572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705720" y="1066680"/>
            <a:ext cx="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7" name="Picture 8" descr="G:\Imágenes trabajo TWITTER\2009-12-04_123327.png"/>
          <p:cNvPicPr/>
          <p:nvPr/>
        </p:nvPicPr>
        <p:blipFill>
          <a:blip r:embed="rId2"/>
          <a:stretch/>
        </p:blipFill>
        <p:spPr>
          <a:xfrm>
            <a:off x="380880" y="2362320"/>
            <a:ext cx="7485120" cy="34099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sp>
        <p:nvSpPr>
          <p:cNvPr id="88" name="Rectangle 9"/>
          <p:cNvSpPr/>
          <p:nvPr/>
        </p:nvSpPr>
        <p:spPr>
          <a:xfrm>
            <a:off x="4952880" y="2362320"/>
            <a:ext cx="76212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5105520" y="27432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0" name="Picture 11" descr="G:\Imágenes trabajo TWITTER\2009-12-04_123504.png"/>
          <p:cNvPicPr/>
          <p:nvPr/>
        </p:nvPicPr>
        <p:blipFill>
          <a:blip r:embed="rId3"/>
          <a:stretch/>
        </p:blipFill>
        <p:spPr>
          <a:xfrm>
            <a:off x="1523880" y="4343400"/>
            <a:ext cx="6077160" cy="210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:\Imágenes trabajo TWITTER\2009-12-04_12350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166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92" name="Rectangle 5"/>
          <p:cNvSpPr/>
          <p:nvPr/>
        </p:nvSpPr>
        <p:spPr>
          <a:xfrm>
            <a:off x="228600" y="838080"/>
            <a:ext cx="18288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133720" y="838080"/>
            <a:ext cx="1904760" cy="457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114800" y="838080"/>
            <a:ext cx="2362320" cy="4572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553080" y="838080"/>
            <a:ext cx="213372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362320" y="12952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7" name="Picture 13" descr="G:\Imágenes trabajo TWITTER\2009-12-04_123914.png"/>
          <p:cNvPicPr/>
          <p:nvPr/>
        </p:nvPicPr>
        <p:blipFill>
          <a:blip r:embed="rId3"/>
          <a:stretch/>
        </p:blipFill>
        <p:spPr>
          <a:xfrm>
            <a:off x="1828800" y="1905120"/>
            <a:ext cx="1714680" cy="18288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98" name="Line 15"/>
          <p:cNvSpPr/>
          <p:nvPr/>
        </p:nvSpPr>
        <p:spPr>
          <a:xfrm>
            <a:off x="1219320" y="25909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9" name="Picture 16" descr="G:\Imágenes trabajo TWITTER\2009-12-04_124036.png"/>
          <p:cNvPicPr/>
          <p:nvPr/>
        </p:nvPicPr>
        <p:blipFill>
          <a:blip r:embed="rId4"/>
          <a:stretch/>
        </p:blipFill>
        <p:spPr>
          <a:xfrm>
            <a:off x="762120" y="4038480"/>
            <a:ext cx="7924680" cy="139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18" descr="G:\Imágenes trabajo TWITTER\2009-12-04_124523.png"/>
          <p:cNvPicPr/>
          <p:nvPr/>
        </p:nvPicPr>
        <p:blipFill>
          <a:blip r:embed="rId5"/>
          <a:stretch/>
        </p:blipFill>
        <p:spPr>
          <a:xfrm>
            <a:off x="0" y="2362320"/>
            <a:ext cx="9144000" cy="291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:\Imágenes trabajo TWITTER\2009-12-04_1231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57240">
            <a:solidFill>
              <a:srgbClr val="ccffcc"/>
            </a:solidFill>
            <a:miter/>
          </a:ln>
        </p:spPr>
      </p:pic>
      <p:sp>
        <p:nvSpPr>
          <p:cNvPr id="102" name="Rectangle 3"/>
          <p:cNvSpPr/>
          <p:nvPr/>
        </p:nvSpPr>
        <p:spPr>
          <a:xfrm>
            <a:off x="7238880" y="609480"/>
            <a:ext cx="685800" cy="4572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7543800" y="1066680"/>
            <a:ext cx="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4" name="Picture 9" descr="G:\Imágenes trabajo TWITTER\2009-12-04_125947.png"/>
          <p:cNvPicPr/>
          <p:nvPr/>
        </p:nvPicPr>
        <p:blipFill>
          <a:blip r:embed="rId2"/>
          <a:stretch/>
        </p:blipFill>
        <p:spPr>
          <a:xfrm>
            <a:off x="2514600" y="2209680"/>
            <a:ext cx="5105520" cy="241956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G:\Imágenes trabajo TWITTER\2009-12-04_130722.png"/>
          <p:cNvPicPr/>
          <p:nvPr/>
        </p:nvPicPr>
        <p:blipFill>
          <a:blip r:embed="rId1"/>
          <a:stretch/>
        </p:blipFill>
        <p:spPr>
          <a:xfrm>
            <a:off x="0" y="609480"/>
            <a:ext cx="480528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04920" y="3809880"/>
            <a:ext cx="4267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9999ff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empus Sans ITC"/>
              </a:rPr>
              <a:t>Personali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99720" y="1785960"/>
            <a:ext cx="7286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Twitter</a:t>
            </a: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  es un servicio gratuito de </a:t>
            </a:r>
            <a:r>
              <a:rPr b="1" lang="es-ES_tradnl" sz="3200" spc="-1" strike="noStrike">
                <a:solidFill>
                  <a:srgbClr val="ff0000"/>
                </a:solidFill>
                <a:latin typeface="Tempus Sans ITC"/>
              </a:rPr>
              <a:t>microblogging</a:t>
            </a: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que permite a sus usuarios enviar micro-entradas basadas en texto, denominadas "tweets", de una longitud máxima de 140 caracte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3 Rectángulo" descr=""/>
          <p:cNvPicPr/>
          <p:nvPr/>
        </p:nvPicPr>
        <p:blipFill>
          <a:blip r:embed="rId1"/>
          <a:stretch/>
        </p:blipFill>
        <p:spPr>
          <a:xfrm>
            <a:off x="1096920" y="85680"/>
            <a:ext cx="6566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0000"/>
            </a:gs>
            <a:gs pos="100000">
              <a:srgbClr val="3333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:\Imágenes trabajo TWITTER\2009-12-04_1301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64040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109" name="Rectangle 5"/>
          <p:cNvSpPr/>
          <p:nvPr/>
        </p:nvSpPr>
        <p:spPr>
          <a:xfrm>
            <a:off x="304920" y="304920"/>
            <a:ext cx="121896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143000" y="144792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1" name="Picture 7" descr="G:\Imágenes trabajo TWITTER\2009-12-04_130200.png"/>
          <p:cNvPicPr/>
          <p:nvPr/>
        </p:nvPicPr>
        <p:blipFill>
          <a:blip r:embed="rId2"/>
          <a:stretch/>
        </p:blipFill>
        <p:spPr>
          <a:xfrm>
            <a:off x="533520" y="3733920"/>
            <a:ext cx="5181480" cy="234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2" name="Rectangle 8"/>
          <p:cNvSpPr/>
          <p:nvPr/>
        </p:nvSpPr>
        <p:spPr>
          <a:xfrm>
            <a:off x="3962520" y="4800600"/>
            <a:ext cx="106668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G:\Imágenes trabajo TWITTER\2009-12-04_130408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498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7"/>
          <p:cNvSpPr/>
          <p:nvPr/>
        </p:nvSpPr>
        <p:spPr>
          <a:xfrm>
            <a:off x="0" y="304920"/>
            <a:ext cx="2819520" cy="3352680"/>
          </a:xfrm>
          <a:prstGeom prst="irregularSeal2">
            <a:avLst/>
          </a:prstGeom>
          <a:noFill/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G:\Imágenes trabajo TWITTER\2009-12-04_130840.png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G:\Imágenes trabajo TWITTER\2009-12-04_131539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575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17" name="Rectangle 5"/>
          <p:cNvSpPr/>
          <p:nvPr/>
        </p:nvSpPr>
        <p:spPr>
          <a:xfrm>
            <a:off x="6248520" y="1219320"/>
            <a:ext cx="114300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6095880" y="1752480"/>
            <a:ext cx="4572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9" name="Picture 7" descr="G:\Imágenes trabajo TWITTER\2009-12-04_131640.png"/>
          <p:cNvPicPr/>
          <p:nvPr/>
        </p:nvPicPr>
        <p:blipFill>
          <a:blip r:embed="rId2"/>
          <a:stretch/>
        </p:blipFill>
        <p:spPr>
          <a:xfrm>
            <a:off x="228600" y="2590920"/>
            <a:ext cx="7227720" cy="2685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0" name="Rectangle 10"/>
          <p:cNvSpPr/>
          <p:nvPr/>
        </p:nvSpPr>
        <p:spPr>
          <a:xfrm>
            <a:off x="3200400" y="3581280"/>
            <a:ext cx="533520" cy="38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G:\Imágenes trabajo TWITTER\2009-12-04_13215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1295280" y="5105520"/>
            <a:ext cx="19051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505320" y="5105520"/>
            <a:ext cx="205740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:\Documents and Settings\All Users\Documentos\Mis imágenes\¡pod\Yo, familia y amig@s\zw91shkUk8oJ0InLLCx.0.jpg"/>
          <p:cNvPicPr/>
          <p:nvPr/>
        </p:nvPicPr>
        <p:blipFill>
          <a:blip r:embed="rId1"/>
          <a:stretch/>
        </p:blipFill>
        <p:spPr>
          <a:xfrm>
            <a:off x="2057400" y="0"/>
            <a:ext cx="5410080" cy="6858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 rot="20902800">
            <a:off x="1219320" y="48769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	</a:t>
            </a: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	</a:t>
            </a: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	</a:t>
            </a: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María Gonzál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583360" y="0"/>
            <a:ext cx="431244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6600"/>
                </a:solidFill>
                <a:latin typeface="Tempus Sans ITC"/>
              </a:rPr>
              <a:t>Realizado por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 rot="1110600">
            <a:off x="2264400" y="342900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Violeta Domínguez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4405320" y="4419720"/>
            <a:ext cx="4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y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457200" y="6019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empus Sans ITC"/>
              </a:rPr>
              <a:t>4º A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400"/>
                            </p:stCondLst>
                            <p:childTnLst>
                              <p:par>
                                <p:cTn id="5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4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900"/>
                            </p:stCondLst>
                            <p:childTnLst>
                              <p:par>
                                <p:cTn id="5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5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47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empus Sans ITC"/>
              </a:rPr>
              <a:t>Cómo se c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G:\Imágenes trabajo TWITTER\2009-11-23_105352.png"/>
          <p:cNvPicPr/>
          <p:nvPr/>
        </p:nvPicPr>
        <p:blipFill>
          <a:blip r:embed="rId1"/>
          <a:stretch/>
        </p:blipFill>
        <p:spPr>
          <a:xfrm>
            <a:off x="762120" y="1676520"/>
            <a:ext cx="7599240" cy="441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G:\Imágenes trabajo TWITTER\2009-12-04_115824.png"/>
          <p:cNvPicPr/>
          <p:nvPr/>
        </p:nvPicPr>
        <p:blipFill>
          <a:blip r:embed="rId2"/>
          <a:stretch/>
        </p:blipFill>
        <p:spPr>
          <a:xfrm>
            <a:off x="457200" y="533520"/>
            <a:ext cx="3962520" cy="1684080"/>
          </a:xfrm>
          <a:prstGeom prst="rect">
            <a:avLst/>
          </a:prstGeom>
          <a:ln w="0">
            <a:noFill/>
          </a:ln>
        </p:spPr>
      </p:pic>
      <p:sp>
        <p:nvSpPr>
          <p:cNvPr id="48" name="Oval 6"/>
          <p:cNvSpPr/>
          <p:nvPr/>
        </p:nvSpPr>
        <p:spPr>
          <a:xfrm>
            <a:off x="6095880" y="2743200"/>
            <a:ext cx="22860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H="1" flipV="1">
            <a:off x="4038120" y="1980720"/>
            <a:ext cx="21337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0" name="6 Rectángulo" descr=""/>
          <p:cNvPicPr/>
          <p:nvPr/>
        </p:nvPicPr>
        <p:blipFill>
          <a:blip r:embed="rId3"/>
          <a:stretch/>
        </p:blipFill>
        <p:spPr>
          <a:xfrm>
            <a:off x="1639800" y="2706840"/>
            <a:ext cx="5681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:\Imágenes trabajo TWITTER\Singup.png"/>
          <p:cNvPicPr/>
          <p:nvPr/>
        </p:nvPicPr>
        <p:blipFill>
          <a:blip r:embed="rId1"/>
          <a:stretch/>
        </p:blipFill>
        <p:spPr>
          <a:xfrm>
            <a:off x="838080" y="0"/>
            <a:ext cx="7656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133720" y="1523880"/>
            <a:ext cx="114300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3276720" y="17524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648320" y="1523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empus Sans ITC"/>
              </a:rPr>
              <a:t>Nombre complet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133720" y="2057400"/>
            <a:ext cx="10666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200400" y="22860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895200" y="208116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empus Sans ITC"/>
              </a:rPr>
              <a:t>Nombre de usuari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133720" y="2743200"/>
            <a:ext cx="11430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3276720" y="29718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411480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empus Sans ITC"/>
              </a:rPr>
              <a:t>Contraseñ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G:\Imágenes trabajo TWITTER\CHECK2.png"/>
          <p:cNvPicPr/>
          <p:nvPr/>
        </p:nvPicPr>
        <p:blipFill>
          <a:blip r:embed="rId1"/>
          <a:stretch/>
        </p:blipFill>
        <p:spPr>
          <a:xfrm>
            <a:off x="819000" y="0"/>
            <a:ext cx="75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:\Imágenes trabajo TWITTER\2009-11-23_11142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553080" y="1676520"/>
            <a:ext cx="175284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1e76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empus Sans ITC"/>
              </a:rPr>
              <a:t>Cómo ent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:\Imágenes trabajo TWITTER\2009-11-23_105352.png"/>
          <p:cNvPicPr/>
          <p:nvPr/>
        </p:nvPicPr>
        <p:blipFill>
          <a:blip r:embed="rId1"/>
          <a:stretch/>
        </p:blipFill>
        <p:spPr>
          <a:xfrm>
            <a:off x="609480" y="1905120"/>
            <a:ext cx="7599600" cy="44193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66" name="Picture 5" descr="G:\Imágenes trabajo TWITTER\2009-11-23_105442.png"/>
          <p:cNvPicPr/>
          <p:nvPr/>
        </p:nvPicPr>
        <p:blipFill>
          <a:blip r:embed="rId2"/>
          <a:stretch/>
        </p:blipFill>
        <p:spPr>
          <a:xfrm>
            <a:off x="762120" y="685800"/>
            <a:ext cx="3886200" cy="944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67" name="Oval 6"/>
          <p:cNvSpPr/>
          <p:nvPr/>
        </p:nvSpPr>
        <p:spPr>
          <a:xfrm>
            <a:off x="6095880" y="1600200"/>
            <a:ext cx="190512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4647960" y="1600200"/>
            <a:ext cx="144756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:\Imágenes trabajo TWITTER\2009-11-23_105715.pn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54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752480" y="2438280"/>
            <a:ext cx="22100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empus Sans ITC"/>
              </a:rPr>
              <a:t>Cambiar el idioma, zona horaria y demá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2:03:41Z</dcterms:created>
  <dc:creator>Gretty</dc:creator>
  <dc:description/>
  <dc:language>en-US</dc:language>
  <cp:lastModifiedBy>Proyecto Medusa</cp:lastModifiedBy>
  <dcterms:modified xsi:type="dcterms:W3CDTF">2009-12-09T11:09:51Z</dcterms:modified>
  <cp:revision>48</cp:revision>
  <dc:subject/>
  <dc:title>Twitter</dc:title>
</cp:coreProperties>
</file>